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4CF7-A2B8-44D5-9E99-3D348A50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DA07-5EF4-4211-9097-CEABF61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3C7D-D35E-48EB-A089-5F43935C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E6A1-1842-4389-8ABF-E8B4413F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E78B-2880-4847-BB2D-643D17A0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2913-E6F5-40A5-BCC6-33456ED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031F-EAEA-474E-B467-EFDF66F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6DC7-2952-4E1A-B607-D1A19259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CAB-887E-4EC5-93DF-D4D12F1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615E-E54F-48D9-BFB1-28F11EE6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93BC-23B4-4383-B449-748BDDA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4DDA-16F6-43E8-97E7-85B391B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D2C-CA79-4CE1-8573-0902509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E92-DA20-4C5B-A1AB-BA87D7B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B0C-E602-415A-83D7-C0EEE450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BF37-A7A1-4A00-B2EC-70C07A8D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4AF0-EA24-443C-BF25-75F8F3D1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A212-8CB9-4143-AFB1-257D9FF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61E6-09B2-430B-838C-0B17638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6388-354A-499C-B8F4-86D2F380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025D-8590-4154-B38F-2AFF3BC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54D6-33B5-4621-9E2A-AB1F52E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2C3E-7546-439A-A205-D1F0EE9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05FF-0E84-4D07-8580-D904548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20DF-5963-43F9-AE3C-7FDFA6950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F7A8-27AF-43AD-85D0-E89BBF0DA8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Monday, February 9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An isosceles triangle has two legs of 48cm each and a base of 81cm.  Find the three angles in this triang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Homework:</a:t>
            </a:r>
            <a:br>
              <a:rPr sz="6500"/>
            </a:br>
            <a:br>
              <a:rPr sz="6500"/>
            </a:b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Page 441 #17-21 odd and 26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Lesson 6.2</a:t>
            </a:r>
            <a:br>
              <a:rPr sz="8500"/>
            </a:b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part two</a:t>
            </a:r>
            <a:endParaRPr b="1" lang="en-US" sz="8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Area of Triangles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e should all know the basic formula to find the area of a triangle             </a:t>
            </a:r>
            <a:r>
              <a:rPr b="1" i="1" lang="en-US" sz="5000" spc="-1" strike="noStrike">
                <a:solidFill>
                  <a:srgbClr val="dfd293"/>
                </a:solidFill>
                <a:latin typeface="Garamond"/>
              </a:rPr>
              <a:t>(Area = ½ x base x height)</a:t>
            </a:r>
            <a:endParaRPr b="1" lang="en-US" sz="5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that formula does not work in most cases.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hen you are given the case of SAS (two sides and the angle between them)…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Use the appropriate oblique triangle formula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 of each triangle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= 25, c = 12 and A = 4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= 11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 = 16 and b = 3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Find the area of a triangle where       b = 16, c = 40 and C = 71</a:t>
            </a:r>
            <a:r>
              <a:rPr b="1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If you know SSS (three sides of a triangle), find the area by using Heron’s Formula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te you must first find the value of “s” for this formul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=(a+b+c)/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69920" y="4633920"/>
            <a:ext cx="571320" cy="314280"/>
          </a:xfrm>
          <a:custGeom>
            <a:avLst/>
            <a:gdLst/>
            <a:ahLst/>
            <a:rect l="l" t="t" r="r" b="b"/>
            <a:pathLst>
              <a:path w="1589" h="869">
                <a:moveTo>
                  <a:pt x="843" y="13221"/>
                </a:moveTo>
                <a:cubicBezTo>
                  <a:pt x="865" y="13214"/>
                  <a:pt x="888" y="13182"/>
                  <a:pt x="868" y="13146"/>
                </a:cubicBezTo>
                <a:cubicBezTo>
                  <a:pt x="856" y="13124"/>
                  <a:pt x="835" y="13033"/>
                  <a:pt x="819" y="13022"/>
                </a:cubicBezTo>
                <a:cubicBezTo>
                  <a:pt x="804" y="13012"/>
                  <a:pt x="744" y="12984"/>
                  <a:pt x="719" y="12998"/>
                </a:cubicBezTo>
                <a:cubicBezTo>
                  <a:pt x="672" y="13024"/>
                  <a:pt x="650" y="13060"/>
                  <a:pt x="620" y="13097"/>
                </a:cubicBezTo>
                <a:cubicBezTo>
                  <a:pt x="586" y="13138"/>
                  <a:pt x="534" y="13165"/>
                  <a:pt x="521" y="13221"/>
                </a:cubicBezTo>
                <a:cubicBezTo>
                  <a:pt x="507" y="13282"/>
                  <a:pt x="487" y="13341"/>
                  <a:pt x="471" y="13395"/>
                </a:cubicBezTo>
                <a:cubicBezTo>
                  <a:pt x="456" y="13444"/>
                  <a:pt x="503" y="13481"/>
                  <a:pt x="521" y="13494"/>
                </a:cubicBezTo>
                <a:cubicBezTo>
                  <a:pt x="567" y="13529"/>
                  <a:pt x="570" y="13527"/>
                  <a:pt x="595" y="13494"/>
                </a:cubicBezTo>
                <a:cubicBezTo>
                  <a:pt x="622" y="13458"/>
                  <a:pt x="642" y="13426"/>
                  <a:pt x="670" y="13395"/>
                </a:cubicBezTo>
                <a:cubicBezTo>
                  <a:pt x="696" y="13366"/>
                  <a:pt x="707" y="13307"/>
                  <a:pt x="719" y="13271"/>
                </a:cubicBezTo>
                <a:cubicBezTo>
                  <a:pt x="736" y="13219"/>
                  <a:pt x="704" y="13214"/>
                  <a:pt x="719" y="13271"/>
                </a:cubicBezTo>
                <a:cubicBezTo>
                  <a:pt x="732" y="13318"/>
                  <a:pt x="749" y="13405"/>
                  <a:pt x="769" y="13444"/>
                </a:cubicBezTo>
                <a:cubicBezTo>
                  <a:pt x="796" y="13498"/>
                  <a:pt x="895" y="13533"/>
                  <a:pt x="918" y="13568"/>
                </a:cubicBezTo>
                <a:cubicBezTo>
                  <a:pt x="918" y="13601"/>
                  <a:pt x="926" y="13609"/>
                  <a:pt x="967" y="13593"/>
                </a:cubicBezTo>
              </a:path>
              <a:path w="1589" h="869">
                <a:moveTo>
                  <a:pt x="1091" y="13097"/>
                </a:moveTo>
                <a:cubicBezTo>
                  <a:pt x="1159" y="13097"/>
                  <a:pt x="1185" y="13104"/>
                  <a:pt x="1240" y="13122"/>
                </a:cubicBezTo>
                <a:cubicBezTo>
                  <a:pt x="1248" y="13122"/>
                  <a:pt x="1257" y="13122"/>
                  <a:pt x="1265" y="13122"/>
                </a:cubicBezTo>
              </a:path>
              <a:path w="1589" h="869">
                <a:moveTo>
                  <a:pt x="1067" y="13295"/>
                </a:moveTo>
                <a:cubicBezTo>
                  <a:pt x="1141" y="13315"/>
                  <a:pt x="1190" y="13320"/>
                  <a:pt x="1265" y="13320"/>
                </a:cubicBezTo>
                <a:cubicBezTo>
                  <a:pt x="1273" y="13320"/>
                  <a:pt x="1282" y="13320"/>
                  <a:pt x="1290" y="13320"/>
                </a:cubicBezTo>
              </a:path>
              <a:path w="1589" h="869">
                <a:moveTo>
                  <a:pt x="1439" y="12874"/>
                </a:moveTo>
                <a:cubicBezTo>
                  <a:pt x="1492" y="12874"/>
                  <a:pt x="1521" y="12889"/>
                  <a:pt x="1563" y="12898"/>
                </a:cubicBezTo>
                <a:cubicBezTo>
                  <a:pt x="1653" y="12917"/>
                  <a:pt x="1768" y="12898"/>
                  <a:pt x="1860" y="12898"/>
                </a:cubicBezTo>
                <a:cubicBezTo>
                  <a:pt x="1850" y="12938"/>
                  <a:pt x="1823" y="12961"/>
                  <a:pt x="1811" y="12998"/>
                </a:cubicBezTo>
                <a:cubicBezTo>
                  <a:pt x="1799" y="13032"/>
                  <a:pt x="1788" y="13087"/>
                  <a:pt x="1786" y="13122"/>
                </a:cubicBezTo>
                <a:cubicBezTo>
                  <a:pt x="1780" y="13210"/>
                  <a:pt x="1748" y="13394"/>
                  <a:pt x="1761" y="13469"/>
                </a:cubicBezTo>
                <a:cubicBezTo>
                  <a:pt x="1766" y="13498"/>
                  <a:pt x="1786" y="13504"/>
                  <a:pt x="1786" y="13543"/>
                </a:cubicBezTo>
              </a:path>
              <a:path w="1589" h="869">
                <a:moveTo>
                  <a:pt x="2059" y="13568"/>
                </a:moveTo>
                <a:cubicBezTo>
                  <a:pt x="2042" y="13609"/>
                  <a:pt x="2021" y="13655"/>
                  <a:pt x="2009" y="13692"/>
                </a:cubicBezTo>
                <a:cubicBezTo>
                  <a:pt x="2009" y="13720"/>
                  <a:pt x="2007" y="13731"/>
                  <a:pt x="1984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6880" y="4626000"/>
            <a:ext cx="258480" cy="295200"/>
          </a:xfrm>
          <a:custGeom>
            <a:avLst/>
            <a:gdLst/>
            <a:ahLst/>
            <a:rect l="l" t="t" r="r" b="b"/>
            <a:pathLst>
              <a:path w="720" h="819">
                <a:moveTo>
                  <a:pt x="2480" y="12849"/>
                </a:moveTo>
                <a:cubicBezTo>
                  <a:pt x="2480" y="12927"/>
                  <a:pt x="2468" y="12975"/>
                  <a:pt x="2456" y="13047"/>
                </a:cubicBezTo>
                <a:cubicBezTo>
                  <a:pt x="2443" y="13128"/>
                  <a:pt x="2435" y="13214"/>
                  <a:pt x="2431" y="13295"/>
                </a:cubicBezTo>
                <a:cubicBezTo>
                  <a:pt x="2426" y="13394"/>
                  <a:pt x="2434" y="13483"/>
                  <a:pt x="2406" y="13568"/>
                </a:cubicBezTo>
                <a:cubicBezTo>
                  <a:pt x="2387" y="13625"/>
                  <a:pt x="2425" y="13515"/>
                  <a:pt x="2431" y="13494"/>
                </a:cubicBezTo>
                <a:cubicBezTo>
                  <a:pt x="2451" y="13428"/>
                  <a:pt x="2475" y="13383"/>
                  <a:pt x="2480" y="13320"/>
                </a:cubicBezTo>
                <a:cubicBezTo>
                  <a:pt x="2483" y="13287"/>
                  <a:pt x="2479" y="13266"/>
                  <a:pt x="2505" y="13246"/>
                </a:cubicBezTo>
                <a:cubicBezTo>
                  <a:pt x="2516" y="13237"/>
                  <a:pt x="2550" y="13204"/>
                  <a:pt x="2580" y="13221"/>
                </a:cubicBezTo>
                <a:cubicBezTo>
                  <a:pt x="2626" y="13247"/>
                  <a:pt x="2619" y="13257"/>
                  <a:pt x="2654" y="13295"/>
                </a:cubicBezTo>
                <a:cubicBezTo>
                  <a:pt x="2689" y="13333"/>
                  <a:pt x="2720" y="13374"/>
                  <a:pt x="2729" y="13419"/>
                </a:cubicBezTo>
                <a:cubicBezTo>
                  <a:pt x="2743" y="13490"/>
                  <a:pt x="2747" y="13504"/>
                  <a:pt x="2729" y="13568"/>
                </a:cubicBezTo>
                <a:cubicBezTo>
                  <a:pt x="2717" y="13611"/>
                  <a:pt x="2711" y="13629"/>
                  <a:pt x="2679" y="13643"/>
                </a:cubicBezTo>
                <a:cubicBezTo>
                  <a:pt x="2653" y="13655"/>
                  <a:pt x="2589" y="13685"/>
                  <a:pt x="2555" y="13667"/>
                </a:cubicBezTo>
                <a:cubicBezTo>
                  <a:pt x="2506" y="13641"/>
                  <a:pt x="2470" y="13652"/>
                  <a:pt x="2456" y="13593"/>
                </a:cubicBezTo>
              </a:path>
              <a:path w="720" h="819">
                <a:moveTo>
                  <a:pt x="2927" y="13221"/>
                </a:moveTo>
                <a:cubicBezTo>
                  <a:pt x="2979" y="13228"/>
                  <a:pt x="2999" y="13246"/>
                  <a:pt x="3051" y="13246"/>
                </a:cubicBezTo>
                <a:cubicBezTo>
                  <a:pt x="3059" y="13246"/>
                  <a:pt x="3068" y="13246"/>
                  <a:pt x="3076" y="13246"/>
                </a:cubicBezTo>
              </a:path>
              <a:path w="720" h="819">
                <a:moveTo>
                  <a:pt x="2952" y="13419"/>
                </a:moveTo>
                <a:cubicBezTo>
                  <a:pt x="3010" y="13444"/>
                  <a:pt x="3037" y="13444"/>
                  <a:pt x="3101" y="13444"/>
                </a:cubicBezTo>
                <a:cubicBezTo>
                  <a:pt x="3109" y="13444"/>
                  <a:pt x="3117" y="13444"/>
                  <a:pt x="3125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1920" y="4653000"/>
            <a:ext cx="438120" cy="357120"/>
          </a:xfrm>
          <a:custGeom>
            <a:avLst/>
            <a:gdLst/>
            <a:ahLst/>
            <a:rect l="l" t="t" r="r" b="b"/>
            <a:pathLst>
              <a:path w="1216" h="993">
                <a:moveTo>
                  <a:pt x="3497" y="12923"/>
                </a:moveTo>
                <a:cubicBezTo>
                  <a:pt x="3541" y="12949"/>
                  <a:pt x="3568" y="12948"/>
                  <a:pt x="3621" y="12948"/>
                </a:cubicBezTo>
                <a:cubicBezTo>
                  <a:pt x="3683" y="12948"/>
                  <a:pt x="3720" y="12954"/>
                  <a:pt x="3770" y="12923"/>
                </a:cubicBezTo>
              </a:path>
              <a:path w="1216" h="993">
                <a:moveTo>
                  <a:pt x="3448" y="12973"/>
                </a:moveTo>
                <a:cubicBezTo>
                  <a:pt x="3435" y="13028"/>
                  <a:pt x="3405" y="13101"/>
                  <a:pt x="3448" y="13122"/>
                </a:cubicBezTo>
                <a:cubicBezTo>
                  <a:pt x="3494" y="13145"/>
                  <a:pt x="3598" y="13130"/>
                  <a:pt x="3646" y="13146"/>
                </a:cubicBezTo>
                <a:cubicBezTo>
                  <a:pt x="3678" y="13156"/>
                  <a:pt x="3729" y="13183"/>
                  <a:pt x="3746" y="13221"/>
                </a:cubicBezTo>
                <a:cubicBezTo>
                  <a:pt x="3767" y="13269"/>
                  <a:pt x="3770" y="13311"/>
                  <a:pt x="3770" y="13370"/>
                </a:cubicBezTo>
                <a:cubicBezTo>
                  <a:pt x="3770" y="13427"/>
                  <a:pt x="3746" y="13472"/>
                  <a:pt x="3721" y="13519"/>
                </a:cubicBezTo>
                <a:cubicBezTo>
                  <a:pt x="3687" y="13582"/>
                  <a:pt x="3659" y="13599"/>
                  <a:pt x="3597" y="13618"/>
                </a:cubicBezTo>
                <a:cubicBezTo>
                  <a:pt x="3563" y="13628"/>
                  <a:pt x="3465" y="13628"/>
                  <a:pt x="3448" y="13593"/>
                </a:cubicBezTo>
                <a:cubicBezTo>
                  <a:pt x="3432" y="13561"/>
                  <a:pt x="3457" y="13539"/>
                  <a:pt x="3473" y="13519"/>
                </a:cubicBezTo>
              </a:path>
              <a:path w="1216" h="993">
                <a:moveTo>
                  <a:pt x="4118" y="13593"/>
                </a:moveTo>
                <a:cubicBezTo>
                  <a:pt x="4066" y="13738"/>
                  <a:pt x="4052" y="13782"/>
                  <a:pt x="3969" y="13915"/>
                </a:cubicBezTo>
              </a:path>
              <a:path w="1216" h="993">
                <a:moveTo>
                  <a:pt x="4614" y="13097"/>
                </a:moveTo>
                <a:cubicBezTo>
                  <a:pt x="4638" y="13097"/>
                  <a:pt x="4646" y="13097"/>
                  <a:pt x="4638" y="13122"/>
                </a:cubicBezTo>
                <a:cubicBezTo>
                  <a:pt x="4638" y="13081"/>
                  <a:pt x="4638" y="13039"/>
                  <a:pt x="4638" y="12998"/>
                </a:cubicBezTo>
                <a:cubicBezTo>
                  <a:pt x="4589" y="12998"/>
                  <a:pt x="4579" y="13009"/>
                  <a:pt x="4539" y="13022"/>
                </a:cubicBezTo>
                <a:cubicBezTo>
                  <a:pt x="4491" y="13037"/>
                  <a:pt x="4468" y="13076"/>
                  <a:pt x="4440" y="13122"/>
                </a:cubicBezTo>
                <a:cubicBezTo>
                  <a:pt x="4409" y="13174"/>
                  <a:pt x="4387" y="13218"/>
                  <a:pt x="4366" y="13271"/>
                </a:cubicBezTo>
                <a:cubicBezTo>
                  <a:pt x="4341" y="13333"/>
                  <a:pt x="4337" y="13385"/>
                  <a:pt x="4366" y="13444"/>
                </a:cubicBezTo>
                <a:cubicBezTo>
                  <a:pt x="4396" y="13504"/>
                  <a:pt x="4480" y="13563"/>
                  <a:pt x="4539" y="13568"/>
                </a:cubicBezTo>
                <a:cubicBezTo>
                  <a:pt x="4567" y="13568"/>
                  <a:pt x="4578" y="13566"/>
                  <a:pt x="4589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6240" y="4616280"/>
            <a:ext cx="312840" cy="331920"/>
          </a:xfrm>
          <a:custGeom>
            <a:avLst/>
            <a:gdLst/>
            <a:ahLst/>
            <a:rect l="l" t="t" r="r" b="b"/>
            <a:pathLst>
              <a:path w="869" h="919">
                <a:moveTo>
                  <a:pt x="4936" y="13146"/>
                </a:moveTo>
                <a:cubicBezTo>
                  <a:pt x="4983" y="13165"/>
                  <a:pt x="5018" y="13185"/>
                  <a:pt x="5060" y="13196"/>
                </a:cubicBezTo>
              </a:path>
              <a:path w="869" h="919">
                <a:moveTo>
                  <a:pt x="4936" y="13395"/>
                </a:moveTo>
                <a:cubicBezTo>
                  <a:pt x="5005" y="13411"/>
                  <a:pt x="5026" y="13419"/>
                  <a:pt x="5085" y="13419"/>
                </a:cubicBezTo>
              </a:path>
              <a:path w="869" h="919">
                <a:moveTo>
                  <a:pt x="5432" y="13022"/>
                </a:moveTo>
                <a:cubicBezTo>
                  <a:pt x="5432" y="13070"/>
                  <a:pt x="5431" y="13109"/>
                  <a:pt x="5407" y="13146"/>
                </a:cubicBezTo>
                <a:cubicBezTo>
                  <a:pt x="5383" y="13182"/>
                  <a:pt x="5390" y="13185"/>
                  <a:pt x="5358" y="13196"/>
                </a:cubicBezTo>
                <a:cubicBezTo>
                  <a:pt x="5367" y="13222"/>
                  <a:pt x="5376" y="13242"/>
                  <a:pt x="5407" y="13246"/>
                </a:cubicBezTo>
                <a:cubicBezTo>
                  <a:pt x="5463" y="13253"/>
                  <a:pt x="5511" y="13271"/>
                  <a:pt x="5581" y="13271"/>
                </a:cubicBezTo>
                <a:cubicBezTo>
                  <a:pt x="5622" y="13271"/>
                  <a:pt x="5630" y="13271"/>
                  <a:pt x="5655" y="13271"/>
                </a:cubicBezTo>
              </a:path>
              <a:path w="869" h="919">
                <a:moveTo>
                  <a:pt x="5804" y="12824"/>
                </a:moveTo>
                <a:cubicBezTo>
                  <a:pt x="5773" y="12906"/>
                  <a:pt x="5774" y="12987"/>
                  <a:pt x="5755" y="13072"/>
                </a:cubicBezTo>
                <a:cubicBezTo>
                  <a:pt x="5732" y="13174"/>
                  <a:pt x="5730" y="13265"/>
                  <a:pt x="5730" y="13370"/>
                </a:cubicBezTo>
                <a:cubicBezTo>
                  <a:pt x="5730" y="13494"/>
                  <a:pt x="5730" y="13618"/>
                  <a:pt x="5730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920" y="5170320"/>
            <a:ext cx="2000160" cy="704880"/>
          </a:xfrm>
          <a:custGeom>
            <a:avLst/>
            <a:gdLst/>
            <a:ahLst/>
            <a:rect l="l" t="t" r="r" b="b"/>
            <a:pathLst>
              <a:path w="5558" h="1960">
                <a:moveTo>
                  <a:pt x="967" y="14387"/>
                </a:moveTo>
                <a:cubicBezTo>
                  <a:pt x="986" y="14329"/>
                  <a:pt x="1003" y="14378"/>
                  <a:pt x="1042" y="14387"/>
                </a:cubicBezTo>
                <a:cubicBezTo>
                  <a:pt x="1175" y="14416"/>
                  <a:pt x="1361" y="14394"/>
                  <a:pt x="1488" y="14362"/>
                </a:cubicBezTo>
                <a:cubicBezTo>
                  <a:pt x="1496" y="14362"/>
                  <a:pt x="1505" y="14362"/>
                  <a:pt x="1513" y="14362"/>
                </a:cubicBezTo>
                <a:cubicBezTo>
                  <a:pt x="1513" y="14409"/>
                  <a:pt x="1496" y="14425"/>
                  <a:pt x="1488" y="14461"/>
                </a:cubicBezTo>
                <a:cubicBezTo>
                  <a:pt x="1475" y="14523"/>
                  <a:pt x="1473" y="14600"/>
                  <a:pt x="1463" y="14660"/>
                </a:cubicBezTo>
                <a:cubicBezTo>
                  <a:pt x="1442" y="14783"/>
                  <a:pt x="1469" y="14917"/>
                  <a:pt x="1488" y="15032"/>
                </a:cubicBezTo>
                <a:cubicBezTo>
                  <a:pt x="1496" y="15081"/>
                  <a:pt x="1508" y="15133"/>
                  <a:pt x="1513" y="15180"/>
                </a:cubicBezTo>
                <a:cubicBezTo>
                  <a:pt x="1516" y="15211"/>
                  <a:pt x="1536" y="15221"/>
                  <a:pt x="1563" y="15230"/>
                </a:cubicBezTo>
              </a:path>
              <a:path w="5558" h="1960">
                <a:moveTo>
                  <a:pt x="2084" y="14610"/>
                </a:moveTo>
                <a:cubicBezTo>
                  <a:pt x="2103" y="14683"/>
                  <a:pt x="2108" y="14734"/>
                  <a:pt x="2108" y="14808"/>
                </a:cubicBezTo>
                <a:cubicBezTo>
                  <a:pt x="2108" y="14895"/>
                  <a:pt x="2128" y="14954"/>
                  <a:pt x="2133" y="15032"/>
                </a:cubicBezTo>
                <a:cubicBezTo>
                  <a:pt x="2135" y="15064"/>
                  <a:pt x="2133" y="15098"/>
                  <a:pt x="2133" y="15131"/>
                </a:cubicBezTo>
              </a:path>
              <a:path w="5558" h="1960">
                <a:moveTo>
                  <a:pt x="2059" y="14808"/>
                </a:moveTo>
                <a:cubicBezTo>
                  <a:pt x="2166" y="14808"/>
                  <a:pt x="2274" y="14808"/>
                  <a:pt x="2381" y="14808"/>
                </a:cubicBezTo>
              </a:path>
              <a:path w="5558" h="1960">
                <a:moveTo>
                  <a:pt x="2629" y="14461"/>
                </a:moveTo>
                <a:cubicBezTo>
                  <a:pt x="2726" y="14445"/>
                  <a:pt x="2805" y="14436"/>
                  <a:pt x="2902" y="14436"/>
                </a:cubicBezTo>
                <a:cubicBezTo>
                  <a:pt x="2919" y="14436"/>
                  <a:pt x="2935" y="14436"/>
                  <a:pt x="2952" y="14436"/>
                </a:cubicBezTo>
              </a:path>
              <a:path w="5558" h="1960">
                <a:moveTo>
                  <a:pt x="2580" y="14536"/>
                </a:moveTo>
                <a:cubicBezTo>
                  <a:pt x="2573" y="14566"/>
                  <a:pt x="2531" y="14690"/>
                  <a:pt x="2555" y="14734"/>
                </a:cubicBezTo>
                <a:cubicBezTo>
                  <a:pt x="2583" y="14785"/>
                  <a:pt x="2607" y="14758"/>
                  <a:pt x="2629" y="14784"/>
                </a:cubicBezTo>
                <a:cubicBezTo>
                  <a:pt x="2662" y="14824"/>
                  <a:pt x="2651" y="14801"/>
                  <a:pt x="2704" y="14784"/>
                </a:cubicBezTo>
                <a:cubicBezTo>
                  <a:pt x="2739" y="14773"/>
                  <a:pt x="2793" y="14761"/>
                  <a:pt x="2828" y="14759"/>
                </a:cubicBezTo>
                <a:cubicBezTo>
                  <a:pt x="2884" y="14756"/>
                  <a:pt x="2950" y="14773"/>
                  <a:pt x="2977" y="14833"/>
                </a:cubicBezTo>
                <a:cubicBezTo>
                  <a:pt x="3000" y="14884"/>
                  <a:pt x="3018" y="14976"/>
                  <a:pt x="3026" y="15032"/>
                </a:cubicBezTo>
                <a:cubicBezTo>
                  <a:pt x="3033" y="15084"/>
                  <a:pt x="3009" y="15144"/>
                  <a:pt x="2977" y="15180"/>
                </a:cubicBezTo>
                <a:cubicBezTo>
                  <a:pt x="2932" y="15231"/>
                  <a:pt x="2843" y="15253"/>
                  <a:pt x="2778" y="15230"/>
                </a:cubicBezTo>
                <a:cubicBezTo>
                  <a:pt x="2758" y="15223"/>
                  <a:pt x="2665" y="15177"/>
                  <a:pt x="2654" y="15156"/>
                </a:cubicBezTo>
                <a:cubicBezTo>
                  <a:pt x="2625" y="15098"/>
                  <a:pt x="2676" y="15044"/>
                  <a:pt x="2704" y="15007"/>
                </a:cubicBezTo>
              </a:path>
              <a:path w="5558" h="1960">
                <a:moveTo>
                  <a:pt x="3448" y="14635"/>
                </a:moveTo>
                <a:cubicBezTo>
                  <a:pt x="3462" y="14748"/>
                  <a:pt x="3450" y="14895"/>
                  <a:pt x="3473" y="15007"/>
                </a:cubicBezTo>
                <a:cubicBezTo>
                  <a:pt x="3487" y="15077"/>
                  <a:pt x="3497" y="15110"/>
                  <a:pt x="3497" y="15180"/>
                </a:cubicBezTo>
                <a:cubicBezTo>
                  <a:pt x="3497" y="15188"/>
                  <a:pt x="3497" y="15197"/>
                  <a:pt x="3497" y="15205"/>
                </a:cubicBezTo>
              </a:path>
              <a:path w="5558" h="1960">
                <a:moveTo>
                  <a:pt x="3349" y="14833"/>
                </a:moveTo>
                <a:cubicBezTo>
                  <a:pt x="3454" y="14851"/>
                  <a:pt x="3541" y="14858"/>
                  <a:pt x="3646" y="14858"/>
                </a:cubicBezTo>
                <a:cubicBezTo>
                  <a:pt x="3725" y="14858"/>
                  <a:pt x="3751" y="14842"/>
                  <a:pt x="3820" y="14808"/>
                </a:cubicBezTo>
              </a:path>
              <a:path w="5558" h="1960">
                <a:moveTo>
                  <a:pt x="4068" y="14536"/>
                </a:moveTo>
                <a:cubicBezTo>
                  <a:pt x="4059" y="14596"/>
                  <a:pt x="4043" y="14619"/>
                  <a:pt x="4043" y="14684"/>
                </a:cubicBezTo>
                <a:cubicBezTo>
                  <a:pt x="4043" y="14730"/>
                  <a:pt x="4036" y="14749"/>
                  <a:pt x="4068" y="14784"/>
                </a:cubicBezTo>
                <a:cubicBezTo>
                  <a:pt x="4113" y="14834"/>
                  <a:pt x="4158" y="14877"/>
                  <a:pt x="4217" y="14908"/>
                </a:cubicBezTo>
                <a:cubicBezTo>
                  <a:pt x="4271" y="14936"/>
                  <a:pt x="4282" y="14932"/>
                  <a:pt x="4341" y="14932"/>
                </a:cubicBezTo>
              </a:path>
              <a:path w="5558" h="1960">
                <a:moveTo>
                  <a:pt x="4490" y="14362"/>
                </a:moveTo>
                <a:cubicBezTo>
                  <a:pt x="4453" y="14461"/>
                  <a:pt x="4426" y="14554"/>
                  <a:pt x="4415" y="14660"/>
                </a:cubicBezTo>
                <a:cubicBezTo>
                  <a:pt x="4400" y="14808"/>
                  <a:pt x="4437" y="14958"/>
                  <a:pt x="4440" y="15106"/>
                </a:cubicBezTo>
                <a:cubicBezTo>
                  <a:pt x="4440" y="15197"/>
                  <a:pt x="4440" y="15222"/>
                  <a:pt x="4440" y="15280"/>
                </a:cubicBezTo>
              </a:path>
              <a:path w="5558" h="1960">
                <a:moveTo>
                  <a:pt x="2084" y="15453"/>
                </a:moveTo>
                <a:cubicBezTo>
                  <a:pt x="2144" y="15441"/>
                  <a:pt x="2237" y="15411"/>
                  <a:pt x="2307" y="15404"/>
                </a:cubicBezTo>
                <a:cubicBezTo>
                  <a:pt x="2486" y="15387"/>
                  <a:pt x="2674" y="15390"/>
                  <a:pt x="2853" y="15379"/>
                </a:cubicBezTo>
                <a:cubicBezTo>
                  <a:pt x="3025" y="15368"/>
                  <a:pt x="3201" y="15371"/>
                  <a:pt x="3373" y="15354"/>
                </a:cubicBezTo>
                <a:cubicBezTo>
                  <a:pt x="3549" y="15337"/>
                  <a:pt x="3716" y="15329"/>
                  <a:pt x="3894" y="15329"/>
                </a:cubicBezTo>
                <a:cubicBezTo>
                  <a:pt x="4005" y="15329"/>
                  <a:pt x="4277" y="15398"/>
                  <a:pt x="4217" y="15304"/>
                </a:cubicBezTo>
                <a:cubicBezTo>
                  <a:pt x="4176" y="15284"/>
                  <a:pt x="4170" y="15276"/>
                  <a:pt x="4142" y="15280"/>
                </a:cubicBezTo>
              </a:path>
              <a:path w="5558" h="1960">
                <a:moveTo>
                  <a:pt x="3324" y="15726"/>
                </a:moveTo>
                <a:cubicBezTo>
                  <a:pt x="3258" y="15726"/>
                  <a:pt x="3388" y="15705"/>
                  <a:pt x="3398" y="15701"/>
                </a:cubicBezTo>
                <a:cubicBezTo>
                  <a:pt x="3465" y="15678"/>
                  <a:pt x="3548" y="15658"/>
                  <a:pt x="3621" y="15677"/>
                </a:cubicBezTo>
                <a:cubicBezTo>
                  <a:pt x="3682" y="15692"/>
                  <a:pt x="3736" y="15765"/>
                  <a:pt x="3746" y="15825"/>
                </a:cubicBezTo>
                <a:cubicBezTo>
                  <a:pt x="3762" y="15915"/>
                  <a:pt x="3698" y="16030"/>
                  <a:pt x="3646" y="16098"/>
                </a:cubicBezTo>
                <a:cubicBezTo>
                  <a:pt x="3610" y="16145"/>
                  <a:pt x="3525" y="16225"/>
                  <a:pt x="3473" y="16247"/>
                </a:cubicBezTo>
                <a:cubicBezTo>
                  <a:pt x="3456" y="16254"/>
                  <a:pt x="3416" y="16247"/>
                  <a:pt x="3398" y="16247"/>
                </a:cubicBezTo>
                <a:cubicBezTo>
                  <a:pt x="3398" y="16177"/>
                  <a:pt x="3459" y="16175"/>
                  <a:pt x="3522" y="16197"/>
                </a:cubicBezTo>
                <a:cubicBezTo>
                  <a:pt x="3614" y="16229"/>
                  <a:pt x="3655" y="16304"/>
                  <a:pt x="3746" y="16321"/>
                </a:cubicBezTo>
              </a:path>
              <a:path w="5558" h="1960">
                <a:moveTo>
                  <a:pt x="744" y="14858"/>
                </a:moveTo>
                <a:cubicBezTo>
                  <a:pt x="731" y="14820"/>
                  <a:pt x="715" y="14833"/>
                  <a:pt x="670" y="14833"/>
                </a:cubicBezTo>
                <a:cubicBezTo>
                  <a:pt x="622" y="14833"/>
                  <a:pt x="581" y="14859"/>
                  <a:pt x="546" y="14883"/>
                </a:cubicBezTo>
                <a:cubicBezTo>
                  <a:pt x="514" y="14904"/>
                  <a:pt x="481" y="14941"/>
                  <a:pt x="496" y="14982"/>
                </a:cubicBezTo>
                <a:cubicBezTo>
                  <a:pt x="522" y="15055"/>
                  <a:pt x="572" y="15146"/>
                  <a:pt x="620" y="15205"/>
                </a:cubicBezTo>
                <a:cubicBezTo>
                  <a:pt x="683" y="15283"/>
                  <a:pt x="740" y="15327"/>
                  <a:pt x="769" y="15429"/>
                </a:cubicBezTo>
                <a:cubicBezTo>
                  <a:pt x="780" y="15468"/>
                  <a:pt x="725" y="15501"/>
                  <a:pt x="695" y="15503"/>
                </a:cubicBezTo>
                <a:cubicBezTo>
                  <a:pt x="649" y="15506"/>
                  <a:pt x="527" y="15515"/>
                  <a:pt x="496" y="15478"/>
                </a:cubicBezTo>
                <a:cubicBezTo>
                  <a:pt x="496" y="15450"/>
                  <a:pt x="494" y="15439"/>
                  <a:pt x="471" y="15429"/>
                </a:cubicBezTo>
              </a:path>
              <a:path w="5558" h="1960">
                <a:moveTo>
                  <a:pt x="967" y="15205"/>
                </a:moveTo>
                <a:cubicBezTo>
                  <a:pt x="1057" y="15191"/>
                  <a:pt x="1110" y="15180"/>
                  <a:pt x="1191" y="15180"/>
                </a:cubicBezTo>
              </a:path>
              <a:path w="5558" h="1960">
                <a:moveTo>
                  <a:pt x="1042" y="15453"/>
                </a:moveTo>
                <a:cubicBezTo>
                  <a:pt x="1110" y="15468"/>
                  <a:pt x="1163" y="15471"/>
                  <a:pt x="1215" y="15503"/>
                </a:cubicBezTo>
              </a:path>
              <a:path w="5558" h="1960">
                <a:moveTo>
                  <a:pt x="4862" y="15329"/>
                </a:moveTo>
                <a:cubicBezTo>
                  <a:pt x="4959" y="15321"/>
                  <a:pt x="5018" y="15324"/>
                  <a:pt x="5110" y="15329"/>
                </a:cubicBezTo>
                <a:cubicBezTo>
                  <a:pt x="5170" y="15332"/>
                  <a:pt x="5214" y="15338"/>
                  <a:pt x="5259" y="15304"/>
                </a:cubicBezTo>
              </a:path>
              <a:path w="5558" h="1960">
                <a:moveTo>
                  <a:pt x="4961" y="15602"/>
                </a:moveTo>
                <a:cubicBezTo>
                  <a:pt x="5080" y="15623"/>
                  <a:pt x="5087" y="15639"/>
                  <a:pt x="5184" y="15602"/>
                </a:cubicBezTo>
              </a:path>
              <a:path w="5558" h="1960">
                <a:moveTo>
                  <a:pt x="5978" y="14660"/>
                </a:moveTo>
                <a:cubicBezTo>
                  <a:pt x="5994" y="14596"/>
                  <a:pt x="6000" y="14560"/>
                  <a:pt x="5928" y="14536"/>
                </a:cubicBezTo>
                <a:cubicBezTo>
                  <a:pt x="5870" y="14517"/>
                  <a:pt x="5800" y="14548"/>
                  <a:pt x="5755" y="14560"/>
                </a:cubicBezTo>
                <a:cubicBezTo>
                  <a:pt x="5697" y="14575"/>
                  <a:pt x="5684" y="14598"/>
                  <a:pt x="5680" y="14660"/>
                </a:cubicBezTo>
                <a:cubicBezTo>
                  <a:pt x="5675" y="14752"/>
                  <a:pt x="5701" y="14822"/>
                  <a:pt x="5730" y="14908"/>
                </a:cubicBezTo>
                <a:cubicBezTo>
                  <a:pt x="5767" y="15019"/>
                  <a:pt x="5834" y="15141"/>
                  <a:pt x="5854" y="15255"/>
                </a:cubicBezTo>
                <a:cubicBezTo>
                  <a:pt x="5870" y="15346"/>
                  <a:pt x="5861" y="15391"/>
                  <a:pt x="5854" y="15478"/>
                </a:cubicBezTo>
                <a:cubicBezTo>
                  <a:pt x="5854" y="15506"/>
                  <a:pt x="5852" y="15517"/>
                  <a:pt x="5829" y="15528"/>
                </a:cubicBezTo>
                <a:cubicBezTo>
                  <a:pt x="5805" y="15520"/>
                  <a:pt x="5776" y="15486"/>
                  <a:pt x="5755" y="15453"/>
                </a:cubicBezTo>
                <a:cubicBezTo>
                  <a:pt x="5713" y="15388"/>
                  <a:pt x="5730" y="15305"/>
                  <a:pt x="5730" y="15230"/>
                </a:cubicBezTo>
                <a:cubicBezTo>
                  <a:pt x="5730" y="15140"/>
                  <a:pt x="5781" y="15033"/>
                  <a:pt x="5829" y="14957"/>
                </a:cubicBezTo>
                <a:cubicBezTo>
                  <a:pt x="5874" y="14885"/>
                  <a:pt x="5928" y="14842"/>
                  <a:pt x="5978" y="14784"/>
                </a:cubicBezTo>
                <a:cubicBezTo>
                  <a:pt x="6001" y="14757"/>
                  <a:pt x="6020" y="14715"/>
                  <a:pt x="6028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840" y="5823000"/>
            <a:ext cx="4125960" cy="500040"/>
          </a:xfrm>
          <a:custGeom>
            <a:avLst/>
            <a:gdLst/>
            <a:ahLst/>
            <a:rect l="l" t="t" r="r" b="b"/>
            <a:pathLst>
              <a:path w="11460" h="1390">
                <a:moveTo>
                  <a:pt x="943" y="17041"/>
                </a:moveTo>
                <a:cubicBezTo>
                  <a:pt x="943" y="17146"/>
                  <a:pt x="941" y="17247"/>
                  <a:pt x="967" y="17338"/>
                </a:cubicBezTo>
                <a:cubicBezTo>
                  <a:pt x="967" y="17346"/>
                  <a:pt x="967" y="17355"/>
                  <a:pt x="967" y="17363"/>
                </a:cubicBezTo>
                <a:cubicBezTo>
                  <a:pt x="967" y="17437"/>
                  <a:pt x="967" y="17233"/>
                  <a:pt x="967" y="17214"/>
                </a:cubicBezTo>
                <a:cubicBezTo>
                  <a:pt x="967" y="17123"/>
                  <a:pt x="973" y="17029"/>
                  <a:pt x="992" y="16942"/>
                </a:cubicBezTo>
                <a:cubicBezTo>
                  <a:pt x="1012" y="16854"/>
                  <a:pt x="1019" y="16753"/>
                  <a:pt x="1042" y="16669"/>
                </a:cubicBezTo>
                <a:cubicBezTo>
                  <a:pt x="1058" y="16612"/>
                  <a:pt x="1091" y="16542"/>
                  <a:pt x="1116" y="16495"/>
                </a:cubicBezTo>
                <a:cubicBezTo>
                  <a:pt x="1137" y="16455"/>
                  <a:pt x="1133" y="16400"/>
                  <a:pt x="1191" y="16421"/>
                </a:cubicBezTo>
                <a:cubicBezTo>
                  <a:pt x="1254" y="16444"/>
                  <a:pt x="1225" y="16463"/>
                  <a:pt x="1265" y="16520"/>
                </a:cubicBezTo>
                <a:cubicBezTo>
                  <a:pt x="1308" y="16583"/>
                  <a:pt x="1315" y="16648"/>
                  <a:pt x="1339" y="16718"/>
                </a:cubicBezTo>
                <a:cubicBezTo>
                  <a:pt x="1371" y="16810"/>
                  <a:pt x="1409" y="16898"/>
                  <a:pt x="1439" y="16991"/>
                </a:cubicBezTo>
                <a:cubicBezTo>
                  <a:pt x="1472" y="17090"/>
                  <a:pt x="1513" y="17189"/>
                  <a:pt x="1538" y="17289"/>
                </a:cubicBezTo>
                <a:cubicBezTo>
                  <a:pt x="1540" y="17297"/>
                  <a:pt x="1560" y="17386"/>
                  <a:pt x="1563" y="17388"/>
                </a:cubicBezTo>
                <a:cubicBezTo>
                  <a:pt x="1571" y="17388"/>
                  <a:pt x="1580" y="17388"/>
                  <a:pt x="1588" y="17388"/>
                </a:cubicBezTo>
              </a:path>
              <a:path w="11460" h="1390">
                <a:moveTo>
                  <a:pt x="1042" y="16942"/>
                </a:moveTo>
                <a:cubicBezTo>
                  <a:pt x="1108" y="16902"/>
                  <a:pt x="1119" y="16938"/>
                  <a:pt x="1191" y="16942"/>
                </a:cubicBezTo>
                <a:cubicBezTo>
                  <a:pt x="1269" y="16947"/>
                  <a:pt x="1342" y="16964"/>
                  <a:pt x="1414" y="16991"/>
                </a:cubicBezTo>
              </a:path>
              <a:path w="11460" h="1390">
                <a:moveTo>
                  <a:pt x="1811" y="16917"/>
                </a:moveTo>
                <a:cubicBezTo>
                  <a:pt x="1877" y="16917"/>
                  <a:pt x="1943" y="16917"/>
                  <a:pt x="2009" y="16917"/>
                </a:cubicBezTo>
              </a:path>
              <a:path w="11460" h="1390">
                <a:moveTo>
                  <a:pt x="1860" y="17115"/>
                </a:moveTo>
                <a:cubicBezTo>
                  <a:pt x="1913" y="17122"/>
                  <a:pt x="1955" y="17140"/>
                  <a:pt x="2009" y="17140"/>
                </a:cubicBezTo>
              </a:path>
              <a:path w="11460" h="1390">
                <a:moveTo>
                  <a:pt x="2232" y="16545"/>
                </a:moveTo>
                <a:cubicBezTo>
                  <a:pt x="2282" y="16584"/>
                  <a:pt x="2341" y="16589"/>
                  <a:pt x="2381" y="16644"/>
                </a:cubicBezTo>
                <a:cubicBezTo>
                  <a:pt x="2432" y="16714"/>
                  <a:pt x="2475" y="16813"/>
                  <a:pt x="2505" y="16892"/>
                </a:cubicBezTo>
                <a:cubicBezTo>
                  <a:pt x="2535" y="16970"/>
                  <a:pt x="2562" y="17035"/>
                  <a:pt x="2580" y="17115"/>
                </a:cubicBezTo>
                <a:cubicBezTo>
                  <a:pt x="2599" y="17197"/>
                  <a:pt x="2593" y="17279"/>
                  <a:pt x="2604" y="17363"/>
                </a:cubicBezTo>
                <a:cubicBezTo>
                  <a:pt x="2612" y="17426"/>
                  <a:pt x="2623" y="17476"/>
                  <a:pt x="2629" y="17537"/>
                </a:cubicBezTo>
                <a:cubicBezTo>
                  <a:pt x="2629" y="17545"/>
                  <a:pt x="2629" y="17554"/>
                  <a:pt x="2629" y="17562"/>
                </a:cubicBezTo>
                <a:cubicBezTo>
                  <a:pt x="2629" y="17190"/>
                  <a:pt x="2631" y="16809"/>
                  <a:pt x="2604" y="16446"/>
                </a:cubicBezTo>
                <a:cubicBezTo>
                  <a:pt x="2602" y="16413"/>
                  <a:pt x="2608" y="16379"/>
                  <a:pt x="2604" y="16346"/>
                </a:cubicBezTo>
                <a:cubicBezTo>
                  <a:pt x="2643" y="16354"/>
                  <a:pt x="2668" y="16363"/>
                  <a:pt x="2704" y="16371"/>
                </a:cubicBezTo>
                <a:cubicBezTo>
                  <a:pt x="2761" y="16383"/>
                  <a:pt x="2828" y="16411"/>
                  <a:pt x="2877" y="16421"/>
                </a:cubicBezTo>
                <a:cubicBezTo>
                  <a:pt x="2959" y="16438"/>
                  <a:pt x="3040" y="16434"/>
                  <a:pt x="3125" y="16446"/>
                </a:cubicBezTo>
                <a:cubicBezTo>
                  <a:pt x="3224" y="16460"/>
                  <a:pt x="3318" y="16470"/>
                  <a:pt x="3423" y="16470"/>
                </a:cubicBezTo>
                <a:cubicBezTo>
                  <a:pt x="4102" y="16470"/>
                  <a:pt x="4779" y="16446"/>
                  <a:pt x="5457" y="16446"/>
                </a:cubicBezTo>
                <a:cubicBezTo>
                  <a:pt x="5618" y="16446"/>
                  <a:pt x="5770" y="16432"/>
                  <a:pt x="5928" y="16421"/>
                </a:cubicBezTo>
                <a:cubicBezTo>
                  <a:pt x="6126" y="16408"/>
                  <a:pt x="6327" y="16409"/>
                  <a:pt x="6524" y="16396"/>
                </a:cubicBezTo>
                <a:cubicBezTo>
                  <a:pt x="6673" y="16386"/>
                  <a:pt x="6821" y="16378"/>
                  <a:pt x="6970" y="16371"/>
                </a:cubicBezTo>
                <a:cubicBezTo>
                  <a:pt x="7122" y="16363"/>
                  <a:pt x="7267" y="16363"/>
                  <a:pt x="7417" y="16346"/>
                </a:cubicBezTo>
                <a:cubicBezTo>
                  <a:pt x="7542" y="16331"/>
                  <a:pt x="7666" y="16314"/>
                  <a:pt x="7789" y="16297"/>
                </a:cubicBezTo>
                <a:cubicBezTo>
                  <a:pt x="7921" y="16278"/>
                  <a:pt x="8056" y="16234"/>
                  <a:pt x="8186" y="16222"/>
                </a:cubicBezTo>
                <a:cubicBezTo>
                  <a:pt x="8267" y="16214"/>
                  <a:pt x="8332" y="16211"/>
                  <a:pt x="8409" y="16197"/>
                </a:cubicBezTo>
                <a:cubicBezTo>
                  <a:pt x="8454" y="16189"/>
                  <a:pt x="8511" y="16163"/>
                  <a:pt x="8558" y="16173"/>
                </a:cubicBezTo>
                <a:cubicBezTo>
                  <a:pt x="8593" y="16180"/>
                  <a:pt x="8549" y="16207"/>
                  <a:pt x="8582" y="16222"/>
                </a:cubicBezTo>
              </a:path>
              <a:path w="11460" h="1390">
                <a:moveTo>
                  <a:pt x="3398" y="16867"/>
                </a:moveTo>
                <a:cubicBezTo>
                  <a:pt x="3421" y="16815"/>
                  <a:pt x="3423" y="16797"/>
                  <a:pt x="3423" y="16743"/>
                </a:cubicBezTo>
                <a:cubicBezTo>
                  <a:pt x="3423" y="16715"/>
                  <a:pt x="3376" y="16697"/>
                  <a:pt x="3349" y="16669"/>
                </a:cubicBezTo>
                <a:cubicBezTo>
                  <a:pt x="3324" y="16643"/>
                  <a:pt x="3284" y="16623"/>
                  <a:pt x="3249" y="16619"/>
                </a:cubicBezTo>
                <a:cubicBezTo>
                  <a:pt x="3207" y="16614"/>
                  <a:pt x="3188" y="16629"/>
                  <a:pt x="3175" y="16669"/>
                </a:cubicBezTo>
                <a:cubicBezTo>
                  <a:pt x="3161" y="16712"/>
                  <a:pt x="3183" y="16752"/>
                  <a:pt x="3200" y="16793"/>
                </a:cubicBezTo>
                <a:cubicBezTo>
                  <a:pt x="3223" y="16847"/>
                  <a:pt x="3271" y="16910"/>
                  <a:pt x="3299" y="16966"/>
                </a:cubicBezTo>
                <a:cubicBezTo>
                  <a:pt x="3336" y="17040"/>
                  <a:pt x="3367" y="17114"/>
                  <a:pt x="3398" y="17190"/>
                </a:cubicBezTo>
                <a:cubicBezTo>
                  <a:pt x="3412" y="17224"/>
                  <a:pt x="3477" y="17355"/>
                  <a:pt x="3448" y="17413"/>
                </a:cubicBezTo>
                <a:cubicBezTo>
                  <a:pt x="3426" y="17457"/>
                  <a:pt x="3421" y="17462"/>
                  <a:pt x="3373" y="17462"/>
                </a:cubicBezTo>
                <a:cubicBezTo>
                  <a:pt x="3321" y="17462"/>
                  <a:pt x="3312" y="17450"/>
                  <a:pt x="3274" y="17413"/>
                </a:cubicBezTo>
                <a:cubicBezTo>
                  <a:pt x="3250" y="17389"/>
                  <a:pt x="3236" y="17350"/>
                  <a:pt x="3249" y="17314"/>
                </a:cubicBezTo>
                <a:cubicBezTo>
                  <a:pt x="3273" y="17248"/>
                  <a:pt x="3271" y="17172"/>
                  <a:pt x="3299" y="17115"/>
                </a:cubicBezTo>
                <a:cubicBezTo>
                  <a:pt x="3323" y="17066"/>
                  <a:pt x="3331" y="17034"/>
                  <a:pt x="3373" y="16991"/>
                </a:cubicBezTo>
                <a:cubicBezTo>
                  <a:pt x="3404" y="16959"/>
                  <a:pt x="3413" y="16927"/>
                  <a:pt x="3448" y="16892"/>
                </a:cubicBezTo>
                <a:cubicBezTo>
                  <a:pt x="3498" y="16842"/>
                  <a:pt x="3544" y="16809"/>
                  <a:pt x="3597" y="16768"/>
                </a:cubicBezTo>
                <a:cubicBezTo>
                  <a:pt x="3605" y="16760"/>
                  <a:pt x="3613" y="16751"/>
                  <a:pt x="3621" y="16743"/>
                </a:cubicBezTo>
              </a:path>
              <a:path w="11460" h="1390">
                <a:moveTo>
                  <a:pt x="4043" y="16570"/>
                </a:moveTo>
                <a:cubicBezTo>
                  <a:pt x="4014" y="16620"/>
                  <a:pt x="3974" y="16648"/>
                  <a:pt x="3944" y="16694"/>
                </a:cubicBezTo>
                <a:cubicBezTo>
                  <a:pt x="3912" y="16743"/>
                  <a:pt x="3858" y="16809"/>
                  <a:pt x="3845" y="16867"/>
                </a:cubicBezTo>
                <a:cubicBezTo>
                  <a:pt x="3835" y="16913"/>
                  <a:pt x="3790" y="17024"/>
                  <a:pt x="3795" y="17066"/>
                </a:cubicBezTo>
                <a:cubicBezTo>
                  <a:pt x="3802" y="17131"/>
                  <a:pt x="3840" y="17203"/>
                  <a:pt x="3870" y="17264"/>
                </a:cubicBezTo>
                <a:cubicBezTo>
                  <a:pt x="3907" y="17339"/>
                  <a:pt x="3957" y="17387"/>
                  <a:pt x="4018" y="17438"/>
                </a:cubicBezTo>
                <a:cubicBezTo>
                  <a:pt x="4054" y="17468"/>
                  <a:pt x="4085" y="17504"/>
                  <a:pt x="4118" y="17537"/>
                </a:cubicBezTo>
              </a:path>
              <a:path w="11460" h="1390">
                <a:moveTo>
                  <a:pt x="4539" y="16669"/>
                </a:moveTo>
                <a:cubicBezTo>
                  <a:pt x="4500" y="16659"/>
                  <a:pt x="4485" y="16644"/>
                  <a:pt x="4440" y="16644"/>
                </a:cubicBezTo>
                <a:cubicBezTo>
                  <a:pt x="4404" y="16644"/>
                  <a:pt x="4368" y="16651"/>
                  <a:pt x="4341" y="16669"/>
                </a:cubicBezTo>
                <a:cubicBezTo>
                  <a:pt x="4299" y="16697"/>
                  <a:pt x="4291" y="16721"/>
                  <a:pt x="4291" y="16768"/>
                </a:cubicBezTo>
                <a:cubicBezTo>
                  <a:pt x="4291" y="16814"/>
                  <a:pt x="4321" y="16875"/>
                  <a:pt x="4341" y="16917"/>
                </a:cubicBezTo>
                <a:cubicBezTo>
                  <a:pt x="4379" y="16997"/>
                  <a:pt x="4444" y="17080"/>
                  <a:pt x="4465" y="17165"/>
                </a:cubicBezTo>
                <a:cubicBezTo>
                  <a:pt x="4471" y="17187"/>
                  <a:pt x="4511" y="17293"/>
                  <a:pt x="4490" y="17314"/>
                </a:cubicBezTo>
                <a:cubicBezTo>
                  <a:pt x="4480" y="17324"/>
                  <a:pt x="4412" y="17350"/>
                  <a:pt x="4390" y="17338"/>
                </a:cubicBezTo>
                <a:cubicBezTo>
                  <a:pt x="4343" y="17312"/>
                  <a:pt x="4351" y="17303"/>
                  <a:pt x="4316" y="17264"/>
                </a:cubicBezTo>
                <a:cubicBezTo>
                  <a:pt x="4294" y="17239"/>
                  <a:pt x="4278" y="17202"/>
                  <a:pt x="4291" y="17165"/>
                </a:cubicBezTo>
                <a:cubicBezTo>
                  <a:pt x="4309" y="17113"/>
                  <a:pt x="4336" y="17036"/>
                  <a:pt x="4366" y="16991"/>
                </a:cubicBezTo>
                <a:cubicBezTo>
                  <a:pt x="4393" y="16949"/>
                  <a:pt x="4409" y="16902"/>
                  <a:pt x="4440" y="16867"/>
                </a:cubicBezTo>
                <a:cubicBezTo>
                  <a:pt x="4456" y="16849"/>
                  <a:pt x="4508" y="16802"/>
                  <a:pt x="4514" y="16793"/>
                </a:cubicBezTo>
                <a:cubicBezTo>
                  <a:pt x="4514" y="16760"/>
                  <a:pt x="4522" y="16751"/>
                  <a:pt x="4564" y="16768"/>
                </a:cubicBezTo>
              </a:path>
              <a:path w="11460" h="1390">
                <a:moveTo>
                  <a:pt x="4713" y="16818"/>
                </a:moveTo>
                <a:cubicBezTo>
                  <a:pt x="4763" y="16847"/>
                  <a:pt x="4801" y="16842"/>
                  <a:pt x="4862" y="16842"/>
                </a:cubicBezTo>
              </a:path>
              <a:path w="11460" h="1390">
                <a:moveTo>
                  <a:pt x="5011" y="16619"/>
                </a:moveTo>
                <a:cubicBezTo>
                  <a:pt x="5083" y="16597"/>
                  <a:pt x="5112" y="16594"/>
                  <a:pt x="5184" y="16594"/>
                </a:cubicBezTo>
                <a:cubicBezTo>
                  <a:pt x="5209" y="16594"/>
                  <a:pt x="5217" y="16594"/>
                  <a:pt x="5234" y="16594"/>
                </a:cubicBezTo>
              </a:path>
              <a:path w="11460" h="1390">
                <a:moveTo>
                  <a:pt x="5333" y="16594"/>
                </a:moveTo>
                <a:cubicBezTo>
                  <a:pt x="5362" y="16632"/>
                  <a:pt x="5358" y="16645"/>
                  <a:pt x="5358" y="16694"/>
                </a:cubicBezTo>
                <a:cubicBezTo>
                  <a:pt x="5358" y="16909"/>
                  <a:pt x="5358" y="17504"/>
                  <a:pt x="5358" y="17289"/>
                </a:cubicBezTo>
              </a:path>
              <a:path w="11460" h="1390">
                <a:moveTo>
                  <a:pt x="5556" y="16520"/>
                </a:moveTo>
                <a:cubicBezTo>
                  <a:pt x="5634" y="16551"/>
                  <a:pt x="5689" y="16590"/>
                  <a:pt x="5730" y="16669"/>
                </a:cubicBezTo>
                <a:cubicBezTo>
                  <a:pt x="5769" y="16743"/>
                  <a:pt x="5776" y="16861"/>
                  <a:pt x="5779" y="16942"/>
                </a:cubicBezTo>
                <a:cubicBezTo>
                  <a:pt x="5782" y="17022"/>
                  <a:pt x="5761" y="17117"/>
                  <a:pt x="5730" y="17190"/>
                </a:cubicBezTo>
                <a:cubicBezTo>
                  <a:pt x="5706" y="17246"/>
                  <a:pt x="5648" y="17292"/>
                  <a:pt x="5606" y="17338"/>
                </a:cubicBezTo>
                <a:cubicBezTo>
                  <a:pt x="5584" y="17362"/>
                  <a:pt x="5543" y="17395"/>
                  <a:pt x="5581" y="17338"/>
                </a:cubicBezTo>
              </a:path>
              <a:path w="11460" h="1390">
                <a:moveTo>
                  <a:pt x="6077" y="16570"/>
                </a:moveTo>
                <a:cubicBezTo>
                  <a:pt x="6066" y="16611"/>
                  <a:pt x="6048" y="16651"/>
                  <a:pt x="6028" y="16694"/>
                </a:cubicBezTo>
                <a:cubicBezTo>
                  <a:pt x="5994" y="16767"/>
                  <a:pt x="5963" y="16840"/>
                  <a:pt x="5953" y="16917"/>
                </a:cubicBezTo>
                <a:cubicBezTo>
                  <a:pt x="5942" y="17006"/>
                  <a:pt x="5968" y="17084"/>
                  <a:pt x="5978" y="17165"/>
                </a:cubicBezTo>
                <a:cubicBezTo>
                  <a:pt x="5990" y="17262"/>
                  <a:pt x="6004" y="17317"/>
                  <a:pt x="6028" y="17413"/>
                </a:cubicBezTo>
                <a:cubicBezTo>
                  <a:pt x="6040" y="17460"/>
                  <a:pt x="6089" y="17462"/>
                  <a:pt x="6052" y="17462"/>
                </a:cubicBezTo>
              </a:path>
              <a:path w="11460" h="1390">
                <a:moveTo>
                  <a:pt x="6598" y="16743"/>
                </a:moveTo>
                <a:cubicBezTo>
                  <a:pt x="6569" y="16700"/>
                  <a:pt x="6553" y="16675"/>
                  <a:pt x="6499" y="16669"/>
                </a:cubicBezTo>
                <a:cubicBezTo>
                  <a:pt x="6447" y="16663"/>
                  <a:pt x="6412" y="16662"/>
                  <a:pt x="6375" y="16694"/>
                </a:cubicBezTo>
                <a:cubicBezTo>
                  <a:pt x="6310" y="16750"/>
                  <a:pt x="6373" y="16831"/>
                  <a:pt x="6400" y="16892"/>
                </a:cubicBezTo>
                <a:cubicBezTo>
                  <a:pt x="6437" y="16974"/>
                  <a:pt x="6479" y="17042"/>
                  <a:pt x="6524" y="17115"/>
                </a:cubicBezTo>
                <a:cubicBezTo>
                  <a:pt x="6564" y="17178"/>
                  <a:pt x="6594" y="17265"/>
                  <a:pt x="6598" y="17338"/>
                </a:cubicBezTo>
                <a:cubicBezTo>
                  <a:pt x="6601" y="17391"/>
                  <a:pt x="6584" y="17395"/>
                  <a:pt x="6573" y="17438"/>
                </a:cubicBezTo>
                <a:cubicBezTo>
                  <a:pt x="6520" y="17438"/>
                  <a:pt x="6512" y="17426"/>
                  <a:pt x="6474" y="17388"/>
                </a:cubicBezTo>
                <a:cubicBezTo>
                  <a:pt x="6422" y="17336"/>
                  <a:pt x="6422" y="17326"/>
                  <a:pt x="6400" y="17264"/>
                </a:cubicBezTo>
                <a:cubicBezTo>
                  <a:pt x="6372" y="17184"/>
                  <a:pt x="6385" y="17187"/>
                  <a:pt x="6400" y="17115"/>
                </a:cubicBezTo>
                <a:cubicBezTo>
                  <a:pt x="6417" y="17030"/>
                  <a:pt x="6448" y="17029"/>
                  <a:pt x="6499" y="16966"/>
                </a:cubicBezTo>
                <a:cubicBezTo>
                  <a:pt x="6542" y="16913"/>
                  <a:pt x="6581" y="16874"/>
                  <a:pt x="6623" y="16818"/>
                </a:cubicBezTo>
                <a:cubicBezTo>
                  <a:pt x="6646" y="16795"/>
                  <a:pt x="6654" y="16791"/>
                  <a:pt x="6648" y="16768"/>
                </a:cubicBezTo>
              </a:path>
              <a:path w="11460" h="1390">
                <a:moveTo>
                  <a:pt x="6871" y="17066"/>
                </a:moveTo>
                <a:cubicBezTo>
                  <a:pt x="6904" y="17066"/>
                  <a:pt x="6937" y="17066"/>
                  <a:pt x="6970" y="17066"/>
                </a:cubicBezTo>
              </a:path>
              <a:path w="11460" h="1390">
                <a:moveTo>
                  <a:pt x="7293" y="16793"/>
                </a:moveTo>
                <a:cubicBezTo>
                  <a:pt x="7366" y="16793"/>
                  <a:pt x="7432" y="16804"/>
                  <a:pt x="7491" y="16768"/>
                </a:cubicBezTo>
              </a:path>
              <a:path w="11460" h="1390">
                <a:moveTo>
                  <a:pt x="7268" y="16793"/>
                </a:moveTo>
                <a:cubicBezTo>
                  <a:pt x="7245" y="16824"/>
                  <a:pt x="7222" y="16853"/>
                  <a:pt x="7218" y="16892"/>
                </a:cubicBezTo>
                <a:cubicBezTo>
                  <a:pt x="7215" y="16918"/>
                  <a:pt x="7227" y="16981"/>
                  <a:pt x="7243" y="16991"/>
                </a:cubicBezTo>
                <a:cubicBezTo>
                  <a:pt x="7269" y="17008"/>
                  <a:pt x="7312" y="17024"/>
                  <a:pt x="7342" y="17041"/>
                </a:cubicBezTo>
                <a:cubicBezTo>
                  <a:pt x="7386" y="17066"/>
                  <a:pt x="7437" y="17095"/>
                  <a:pt x="7466" y="17140"/>
                </a:cubicBezTo>
                <a:cubicBezTo>
                  <a:pt x="7494" y="17184"/>
                  <a:pt x="7505" y="17263"/>
                  <a:pt x="7491" y="17314"/>
                </a:cubicBezTo>
                <a:cubicBezTo>
                  <a:pt x="7487" y="17328"/>
                  <a:pt x="7450" y="17432"/>
                  <a:pt x="7441" y="17438"/>
                </a:cubicBezTo>
                <a:cubicBezTo>
                  <a:pt x="7404" y="17464"/>
                  <a:pt x="7362" y="17408"/>
                  <a:pt x="7342" y="17388"/>
                </a:cubicBezTo>
                <a:cubicBezTo>
                  <a:pt x="7296" y="17342"/>
                  <a:pt x="7273" y="17297"/>
                  <a:pt x="7243" y="17239"/>
                </a:cubicBezTo>
                <a:cubicBezTo>
                  <a:pt x="7235" y="17223"/>
                  <a:pt x="7226" y="17206"/>
                  <a:pt x="7218" y="17190"/>
                </a:cubicBezTo>
              </a:path>
              <a:path w="11460" h="1390">
                <a:moveTo>
                  <a:pt x="7565" y="16570"/>
                </a:moveTo>
                <a:cubicBezTo>
                  <a:pt x="7676" y="16687"/>
                  <a:pt x="7742" y="16761"/>
                  <a:pt x="7789" y="16917"/>
                </a:cubicBezTo>
                <a:cubicBezTo>
                  <a:pt x="7815" y="17004"/>
                  <a:pt x="7838" y="17185"/>
                  <a:pt x="7789" y="17264"/>
                </a:cubicBezTo>
                <a:cubicBezTo>
                  <a:pt x="7754" y="17321"/>
                  <a:pt x="7720" y="17376"/>
                  <a:pt x="7665" y="17413"/>
                </a:cubicBezTo>
                <a:cubicBezTo>
                  <a:pt x="7631" y="17436"/>
                  <a:pt x="7589" y="17427"/>
                  <a:pt x="7615" y="17388"/>
                </a:cubicBezTo>
              </a:path>
              <a:path w="11460" h="1390">
                <a:moveTo>
                  <a:pt x="8086" y="16644"/>
                </a:moveTo>
                <a:cubicBezTo>
                  <a:pt x="8075" y="16691"/>
                  <a:pt x="8040" y="16748"/>
                  <a:pt x="8012" y="16793"/>
                </a:cubicBezTo>
                <a:cubicBezTo>
                  <a:pt x="7969" y="16864"/>
                  <a:pt x="7925" y="16953"/>
                  <a:pt x="7938" y="17041"/>
                </a:cubicBezTo>
                <a:cubicBezTo>
                  <a:pt x="7950" y="17119"/>
                  <a:pt x="7968" y="17221"/>
                  <a:pt x="8012" y="17289"/>
                </a:cubicBezTo>
                <a:cubicBezTo>
                  <a:pt x="8037" y="17314"/>
                  <a:pt x="8045" y="17322"/>
                  <a:pt x="8062" y="17338"/>
                </a:cubicBezTo>
              </a:path>
              <a:path w="11460" h="1390">
                <a:moveTo>
                  <a:pt x="8483" y="16694"/>
                </a:moveTo>
                <a:cubicBezTo>
                  <a:pt x="8471" y="16613"/>
                  <a:pt x="8465" y="16619"/>
                  <a:pt x="8384" y="16619"/>
                </a:cubicBezTo>
                <a:cubicBezTo>
                  <a:pt x="8312" y="16619"/>
                  <a:pt x="8331" y="16677"/>
                  <a:pt x="8310" y="16718"/>
                </a:cubicBezTo>
                <a:cubicBezTo>
                  <a:pt x="8275" y="16787"/>
                  <a:pt x="8289" y="16885"/>
                  <a:pt x="8310" y="16966"/>
                </a:cubicBezTo>
                <a:cubicBezTo>
                  <a:pt x="8336" y="17068"/>
                  <a:pt x="8401" y="17159"/>
                  <a:pt x="8409" y="17264"/>
                </a:cubicBezTo>
                <a:cubicBezTo>
                  <a:pt x="8414" y="17327"/>
                  <a:pt x="8385" y="17338"/>
                  <a:pt x="8334" y="17338"/>
                </a:cubicBezTo>
                <a:cubicBezTo>
                  <a:pt x="8307" y="17338"/>
                  <a:pt x="8287" y="17291"/>
                  <a:pt x="8260" y="17264"/>
                </a:cubicBezTo>
                <a:cubicBezTo>
                  <a:pt x="8234" y="17238"/>
                  <a:pt x="8219" y="17178"/>
                  <a:pt x="8235" y="17140"/>
                </a:cubicBezTo>
                <a:cubicBezTo>
                  <a:pt x="8249" y="17107"/>
                  <a:pt x="8308" y="17067"/>
                  <a:pt x="8334" y="17041"/>
                </a:cubicBezTo>
                <a:cubicBezTo>
                  <a:pt x="8373" y="17001"/>
                  <a:pt x="8417" y="16979"/>
                  <a:pt x="8458" y="16942"/>
                </a:cubicBezTo>
                <a:cubicBezTo>
                  <a:pt x="8508" y="16897"/>
                  <a:pt x="8465" y="16912"/>
                  <a:pt x="8533" y="16867"/>
                </a:cubicBezTo>
              </a:path>
              <a:path w="11460" h="1390">
                <a:moveTo>
                  <a:pt x="8657" y="16867"/>
                </a:moveTo>
                <a:cubicBezTo>
                  <a:pt x="8717" y="16876"/>
                  <a:pt x="8768" y="16896"/>
                  <a:pt x="8830" y="16867"/>
                </a:cubicBezTo>
                <a:cubicBezTo>
                  <a:pt x="8838" y="16859"/>
                  <a:pt x="8847" y="16850"/>
                  <a:pt x="8855" y="16842"/>
                </a:cubicBezTo>
              </a:path>
              <a:path w="11460" h="1390">
                <a:moveTo>
                  <a:pt x="8905" y="16644"/>
                </a:moveTo>
                <a:cubicBezTo>
                  <a:pt x="8905" y="16669"/>
                  <a:pt x="8905" y="16677"/>
                  <a:pt x="8905" y="16694"/>
                </a:cubicBezTo>
                <a:cubicBezTo>
                  <a:pt x="8870" y="16717"/>
                  <a:pt x="8878" y="16753"/>
                  <a:pt x="8905" y="16793"/>
                </a:cubicBezTo>
                <a:cubicBezTo>
                  <a:pt x="8940" y="16845"/>
                  <a:pt x="8975" y="16884"/>
                  <a:pt x="9029" y="16917"/>
                </a:cubicBezTo>
                <a:cubicBezTo>
                  <a:pt x="9069" y="16937"/>
                  <a:pt x="9076" y="16946"/>
                  <a:pt x="9103" y="16942"/>
                </a:cubicBezTo>
              </a:path>
              <a:path w="11460" h="1390">
                <a:moveTo>
                  <a:pt x="9178" y="16520"/>
                </a:moveTo>
                <a:cubicBezTo>
                  <a:pt x="9178" y="16705"/>
                  <a:pt x="9173" y="16890"/>
                  <a:pt x="9203" y="17066"/>
                </a:cubicBezTo>
                <a:cubicBezTo>
                  <a:pt x="9210" y="17105"/>
                  <a:pt x="9203" y="17150"/>
                  <a:pt x="9203" y="17190"/>
                </a:cubicBezTo>
              </a:path>
              <a:path w="11460" h="1390">
                <a:moveTo>
                  <a:pt x="9302" y="16346"/>
                </a:moveTo>
                <a:cubicBezTo>
                  <a:pt x="9359" y="16404"/>
                  <a:pt x="9378" y="16465"/>
                  <a:pt x="9401" y="16545"/>
                </a:cubicBezTo>
                <a:cubicBezTo>
                  <a:pt x="9440" y="16683"/>
                  <a:pt x="9471" y="16823"/>
                  <a:pt x="9475" y="16966"/>
                </a:cubicBezTo>
                <a:cubicBezTo>
                  <a:pt x="9478" y="17054"/>
                  <a:pt x="9484" y="17140"/>
                  <a:pt x="9426" y="17214"/>
                </a:cubicBezTo>
                <a:cubicBezTo>
                  <a:pt x="9386" y="17265"/>
                  <a:pt x="9348" y="17317"/>
                  <a:pt x="9302" y="17363"/>
                </a:cubicBezTo>
                <a:cubicBezTo>
                  <a:pt x="9273" y="17392"/>
                  <a:pt x="9264" y="17404"/>
                  <a:pt x="9227" y="17413"/>
                </a:cubicBezTo>
              </a:path>
              <a:path w="11460" h="1390">
                <a:moveTo>
                  <a:pt x="10046" y="16842"/>
                </a:moveTo>
                <a:cubicBezTo>
                  <a:pt x="10087" y="16842"/>
                  <a:pt x="10129" y="16842"/>
                  <a:pt x="10170" y="16842"/>
                </a:cubicBezTo>
              </a:path>
              <a:path w="11460" h="1390">
                <a:moveTo>
                  <a:pt x="10120" y="17066"/>
                </a:moveTo>
                <a:cubicBezTo>
                  <a:pt x="10210" y="17097"/>
                  <a:pt x="10280" y="17129"/>
                  <a:pt x="10368" y="17140"/>
                </a:cubicBezTo>
              </a:path>
              <a:path w="11460" h="1390">
                <a:moveTo>
                  <a:pt x="11311" y="16495"/>
                </a:moveTo>
                <a:cubicBezTo>
                  <a:pt x="11266" y="16392"/>
                  <a:pt x="11235" y="16366"/>
                  <a:pt x="11088" y="16371"/>
                </a:cubicBezTo>
                <a:cubicBezTo>
                  <a:pt x="11015" y="16373"/>
                  <a:pt x="10964" y="16420"/>
                  <a:pt x="10914" y="16470"/>
                </a:cubicBezTo>
                <a:cubicBezTo>
                  <a:pt x="10879" y="16505"/>
                  <a:pt x="10835" y="16568"/>
                  <a:pt x="10840" y="16619"/>
                </a:cubicBezTo>
                <a:cubicBezTo>
                  <a:pt x="10845" y="16664"/>
                  <a:pt x="10888" y="16733"/>
                  <a:pt x="10914" y="16768"/>
                </a:cubicBezTo>
                <a:cubicBezTo>
                  <a:pt x="10944" y="16808"/>
                  <a:pt x="11023" y="16834"/>
                  <a:pt x="11063" y="16842"/>
                </a:cubicBezTo>
                <a:cubicBezTo>
                  <a:pt x="11118" y="16853"/>
                  <a:pt x="11147" y="16816"/>
                  <a:pt x="11187" y="16793"/>
                </a:cubicBezTo>
                <a:cubicBezTo>
                  <a:pt x="11223" y="16772"/>
                  <a:pt x="11292" y="16736"/>
                  <a:pt x="11311" y="16694"/>
                </a:cubicBezTo>
                <a:cubicBezTo>
                  <a:pt x="11320" y="16675"/>
                  <a:pt x="11336" y="16625"/>
                  <a:pt x="11336" y="16669"/>
                </a:cubicBezTo>
                <a:cubicBezTo>
                  <a:pt x="11336" y="16822"/>
                  <a:pt x="11332" y="16967"/>
                  <a:pt x="11311" y="17115"/>
                </a:cubicBezTo>
                <a:cubicBezTo>
                  <a:pt x="11295" y="17226"/>
                  <a:pt x="11311" y="17349"/>
                  <a:pt x="11311" y="17462"/>
                </a:cubicBezTo>
              </a:path>
              <a:path w="11460" h="1390">
                <a:moveTo>
                  <a:pt x="11683" y="17388"/>
                </a:moveTo>
                <a:cubicBezTo>
                  <a:pt x="11708" y="17363"/>
                  <a:pt x="11716" y="17355"/>
                  <a:pt x="11733" y="17338"/>
                </a:cubicBezTo>
              </a:path>
              <a:path w="11460" h="1390">
                <a:moveTo>
                  <a:pt x="12303" y="16669"/>
                </a:moveTo>
                <a:cubicBezTo>
                  <a:pt x="12303" y="16595"/>
                  <a:pt x="12332" y="16452"/>
                  <a:pt x="12254" y="16396"/>
                </a:cubicBezTo>
                <a:cubicBezTo>
                  <a:pt x="12210" y="16364"/>
                  <a:pt x="12181" y="16346"/>
                  <a:pt x="12129" y="16346"/>
                </a:cubicBezTo>
                <a:cubicBezTo>
                  <a:pt x="12043" y="16346"/>
                  <a:pt x="12054" y="16334"/>
                  <a:pt x="12005" y="16396"/>
                </a:cubicBezTo>
                <a:cubicBezTo>
                  <a:pt x="11981" y="16426"/>
                  <a:pt x="11946" y="16504"/>
                  <a:pt x="11956" y="16545"/>
                </a:cubicBezTo>
                <a:cubicBezTo>
                  <a:pt x="11971" y="16608"/>
                  <a:pt x="11993" y="16713"/>
                  <a:pt x="12030" y="16768"/>
                </a:cubicBezTo>
                <a:cubicBezTo>
                  <a:pt x="12075" y="16835"/>
                  <a:pt x="12116" y="16891"/>
                  <a:pt x="12154" y="16966"/>
                </a:cubicBezTo>
                <a:cubicBezTo>
                  <a:pt x="12190" y="17038"/>
                  <a:pt x="12241" y="17092"/>
                  <a:pt x="12278" y="17165"/>
                </a:cubicBezTo>
                <a:cubicBezTo>
                  <a:pt x="12312" y="17233"/>
                  <a:pt x="12347" y="17287"/>
                  <a:pt x="12353" y="17363"/>
                </a:cubicBezTo>
                <a:cubicBezTo>
                  <a:pt x="12357" y="17409"/>
                  <a:pt x="12352" y="17433"/>
                  <a:pt x="12303" y="17438"/>
                </a:cubicBezTo>
                <a:cubicBezTo>
                  <a:pt x="12245" y="17444"/>
                  <a:pt x="12198" y="17424"/>
                  <a:pt x="12154" y="17388"/>
                </a:cubicBezTo>
                <a:cubicBezTo>
                  <a:pt x="12128" y="17367"/>
                  <a:pt x="12092" y="17294"/>
                  <a:pt x="12080" y="17264"/>
                </a:cubicBezTo>
                <a:cubicBezTo>
                  <a:pt x="12058" y="17208"/>
                  <a:pt x="12078" y="17082"/>
                  <a:pt x="12105" y="17041"/>
                </a:cubicBezTo>
                <a:cubicBezTo>
                  <a:pt x="12156" y="16962"/>
                  <a:pt x="12191" y="16886"/>
                  <a:pt x="12254" y="16818"/>
                </a:cubicBezTo>
                <a:cubicBezTo>
                  <a:pt x="12297" y="16771"/>
                  <a:pt x="12358" y="16680"/>
                  <a:pt x="12378" y="16619"/>
                </a:cubicBezTo>
                <a:cubicBezTo>
                  <a:pt x="12390" y="16582"/>
                  <a:pt x="12417" y="16541"/>
                  <a:pt x="12402" y="16495"/>
                </a:cubicBezTo>
                <a:cubicBezTo>
                  <a:pt x="12394" y="16479"/>
                  <a:pt x="12386" y="16462"/>
                  <a:pt x="12378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6, b = 24, c = 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20, b = 202, c = 3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1:58Z</dcterms:created>
  <dc:creator>jnewman</dc:creator>
  <dc:description/>
  <dc:language>en-US</dc:language>
  <cp:lastModifiedBy>abeason</cp:lastModifiedBy>
  <dcterms:modified xsi:type="dcterms:W3CDTF">2009-02-09T19:10:32Z</dcterms:modified>
  <cp:revision>6</cp:revision>
  <dc:subject/>
  <dc:title>Lesson 6.2 part two</dc:title>
</cp:coreProperties>
</file>